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8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11.gif" ContentType="image/gif"/>
  <Override PartName="/ppt/media/image5.jpeg" ContentType="image/jpeg"/>
  <Override PartName="/ppt/media/image13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9.jpeg" ContentType="image/jpeg"/>
  <Override PartName="/ppt/media/image14.gif" ContentType="image/gif"/>
  <Override PartName="/ppt/media/image2.png" ContentType="image/pn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895-5DF6-4A99-AACC-106AA652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C02-2407-42DC-A188-65C8DD21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EDD-F903-4E8F-A44E-F00ACFEF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40D-8501-49F9-BC97-919F9CE1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D5D-1078-43FD-B55E-EB4277E6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6AC1-2795-4F14-B8AF-708CB14B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4325-267D-4E10-B941-E6F42F2F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11E-B12C-4ED2-8153-840DD408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582-239F-4F45-9F99-ED52F580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C8A-C3B2-428D-A9AC-0E045F00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348-F8EA-4434-8AD7-340A091F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DC9-25D6-4469-A5CA-A9484776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CBCD-8924-45B5-AFA7-70CFC4519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co.uk/imgres?imgurl=http://motivate.maths.org/conferences/conf36/mouth.gif&amp;imgrefurl=http://www.onovopolitico.blogspot.com/&amp;h=165&amp;w=248&amp;sz=2&amp;tbnid=YrwMjOPSKyEJ:&amp;tbnh=70&amp;tbnw=105&amp;start=2&amp;prev=/images%3Fq%3Dmouth%26hl%3Den%26lr%3D%26sa%3DN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o.uk/imgres?imgurl=http://www.sla.purdue.edu/academic/fll/JapanProj/FLClipart/Medical/shoulders.gif&amp;imgrefurl=http://www.sla.purdue.edu/academic/fll/JapanProj/FLClipart/Medical.html&amp;h=716&amp;w=901&amp;sz=8&amp;tbnid=yNVAhHJjwdYJ:&amp;tbnh=116&amp;tbnw=146&amp;start=2&amp;prev=/images%3Fq%3Dshoulders%26hl%3Den%26lr%3D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.uk/imgres?imgurl=http://www.eslkidstuff.com/images/elbow.gif&amp;imgrefurl=http://www.eyeranian.net/2003/June/index.shtml&amp;h=277&amp;w=314&amp;sz=4&amp;tbnid=AHny_l7qr88J:&amp;tbnh=99&amp;tbnw=112&amp;start=15&amp;prev=/images%3Fq%3Delbow%26hl%3Den%26lr%3D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gif"/><Relationship Id="rId3" Type="http://schemas.openxmlformats.org/officeDocument/2006/relationships/image" Target="../media/image20.gif"/><Relationship Id="rId4" Type="http://schemas.openxmlformats.org/officeDocument/2006/relationships/image" Target="../media/image19.gif"/><Relationship Id="rId5" Type="http://schemas.openxmlformats.org/officeDocument/2006/relationships/image" Target="../media/image10.gif"/><Relationship Id="rId6" Type="http://schemas.openxmlformats.org/officeDocument/2006/relationships/image" Target="../media/image18.gif"/><Relationship Id="rId7" Type="http://schemas.openxmlformats.org/officeDocument/2006/relationships/image" Target="../media/image17.gif"/><Relationship Id="rId8" Type="http://schemas.openxmlformats.org/officeDocument/2006/relationships/image" Target="../media/image1.gif"/><Relationship Id="rId9" Type="http://schemas.openxmlformats.org/officeDocument/2006/relationships/image" Target="../media/image16.gif"/><Relationship Id="rId10" Type="http://schemas.openxmlformats.org/officeDocument/2006/relationships/image" Target="../media/image15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4.gif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700280"/>
            <a:ext cx="324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3284640"/>
            <a:ext cx="324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pi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79640" y="1700280"/>
            <a:ext cx="51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3284640"/>
            <a:ext cx="63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cuerp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557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revise how to complain about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complete a dialogue for at doctor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translate a di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8000" y="2852640"/>
            <a:ext cx="5472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Al med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119700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¿Qué le suce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43280" y="2133720"/>
            <a:ext cx="2897280" cy="289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508464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¿En qué le puedo ayud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1052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e duel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494172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engo dolor d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908000" y="1341360"/>
            <a:ext cx="1428480" cy="163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2484360" y="3213000"/>
            <a:ext cx="1276200" cy="1181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1476360" y="494172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396360" y="692280"/>
            <a:ext cx="1371600" cy="1466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9396360" y="3500280"/>
            <a:ext cx="173376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-1620720" y="3284640"/>
            <a:ext cx="1066680" cy="1523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-2124000" y="0"/>
            <a:ext cx="1908000" cy="1101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9468000" y="5518080"/>
            <a:ext cx="198108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1.36847E-006 L 1.32291 -0.17823 E">
                                      <p:cBhvr>
                                        <p:cTn id="110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02127E-006 L -1.34653 -0.35646 E">
                                      <p:cBhvr>
                                        <p:cTn id="114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06981E-006 L 1.29149 0.08391 E">
                                      <p:cBhvr>
                                        <p:cTn id="118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7.16597E-007 L -1.29948 0.67106 E">
                                      <p:cBhvr>
                                        <p:cTn id="122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62598E-006 L 1.36233 0.0104 E">
                                      <p:cBhvr>
                                        <p:cTn id="126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6.72215E-006 L 1.25226 -0.0208 E">
                                      <p:cBhvr>
                                        <p:cTn id="130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4337E-006 L -1.34653 -0.45076 E">
                                      <p:cBhvr>
                                        <p:cTn id="134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16000" y="4005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Desde cuándo le due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3760560" cy="3760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4797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esde 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68360" y="566100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esde hace una sem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95640" y="2476440"/>
            <a:ext cx="3328920" cy="3328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1052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Es gr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24000" y="1665360"/>
            <a:ext cx="5616720" cy="4211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87280" y="90792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Me he cor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87280" y="1628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Quiero una tir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41212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03280" y="836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Me he torci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mi rod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360" y="2205000"/>
            <a:ext cx="23083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1700280"/>
            <a:ext cx="324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3284640"/>
            <a:ext cx="324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oj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03280" y="836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  <a:ea typeface="Arial"/>
              </a:rPr>
              <a:t>Quiero una v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59280" y="2060640"/>
            <a:ext cx="32097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360" y="2421000"/>
            <a:ext cx="3760920" cy="3760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58920" y="1341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Me he roto la pie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341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Quiero ir al 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éd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28969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58920" y="1341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Me siento 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30574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58920" y="1341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Estoy enfermo /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376056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47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Tengo 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43280" y="2205000"/>
            <a:ext cx="354492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47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Tengo fie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47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Tengo gri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3640" y="2004840"/>
            <a:ext cx="3313080" cy="33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47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Estoy resfri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3144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47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Estoy constip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3144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79640" y="1700280"/>
            <a:ext cx="324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3284640"/>
            <a:ext cx="482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cabez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514520" cy="1873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211640" y="33336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443640" y="26028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0" y="249228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979640" y="2421000"/>
            <a:ext cx="172872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780000" y="2421000"/>
            <a:ext cx="1584000" cy="1966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5435640" y="24922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7164360" y="249228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0" y="4508640"/>
            <a:ext cx="1684440" cy="1749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1692360" y="4653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348000" y="4653000"/>
            <a:ext cx="2016000" cy="1511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5435640" y="4653000"/>
            <a:ext cx="1673280" cy="1673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4"/>
          <a:stretch/>
        </p:blipFill>
        <p:spPr>
          <a:xfrm>
            <a:off x="7451640" y="4508640"/>
            <a:ext cx="1133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1700280"/>
            <a:ext cx="36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he torci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he corta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1700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tor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5640" y="2349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c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260280"/>
            <a:ext cx="8424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¿Cómo se dice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ha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have to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 qu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 had to (pret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 had to go to the doctor -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cause 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 cut myself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it was quite serious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836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3640" y="1484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2133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ve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27813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ve que ir al me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3429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4076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 c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465300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 fue bastante g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79640" y="1700280"/>
            <a:ext cx="51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coraz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3284640"/>
            <a:ext cx="482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79640" y="1700280"/>
            <a:ext cx="51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le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3284640"/>
            <a:ext cx="482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piern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79640" y="1700280"/>
            <a:ext cx="51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3284640"/>
            <a:ext cx="482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braz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79640" y="1700280"/>
            <a:ext cx="51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3284640"/>
            <a:ext cx="63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  <a:ea typeface="Arial"/>
              </a:rPr>
              <a:t>ómag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79640" y="1700280"/>
            <a:ext cx="51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ches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3284640"/>
            <a:ext cx="63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pech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79640" y="1700280"/>
            <a:ext cx="51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It hurt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328464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0000" spc="-1" strike="noStrike">
                <a:solidFill>
                  <a:srgbClr val="000000"/>
                </a:solidFill>
                <a:latin typeface="Arial"/>
              </a:rPr>
              <a:t>Me duele (n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9:51:34Z</dcterms:created>
  <dc:creator>Alice</dc:creator>
  <dc:description/>
  <dc:language>en-US</dc:language>
  <cp:lastModifiedBy>Owner1</cp:lastModifiedBy>
  <dcterms:modified xsi:type="dcterms:W3CDTF">2008-10-19T14:04:38Z</dcterms:modified>
  <cp:revision>9</cp:revision>
  <dc:subject/>
  <dc:title>Slide 1</dc:title>
</cp:coreProperties>
</file>